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2BC-6A53-4292-8BF8-AA83CC3D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DFE-6C96-41B5-B853-AE2CA7F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740-ECD1-4FB5-82A2-E7A9B5D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53C-F1F4-4AF7-96E0-A1FA90A1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224-E0D0-435D-8370-E5D21F05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91E8-6F75-4324-B0BE-26F538F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8AB8-4734-408F-93AD-7765788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740-29A8-46B4-848B-38701CC1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BCD-67F3-4AC8-8E22-39BE2E8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9DF1-8B7B-4439-B7B0-0161184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AB7A-5D72-40F5-90C6-2E02D93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8C2-44B6-46C5-9CAB-5602C32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0785-2F7C-4CAA-95DA-3862CEE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B03-22EB-4CD7-8FCE-56BD801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6F78-63B9-4BE8-A43B-92698BF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B20D-B805-4E25-B108-5550E045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42E-F912-4464-B373-FB88E2BF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170-557C-4A06-8D3D-6747D028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E47-5AC6-485F-8D31-5DA3E918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508-9EE2-48CE-B042-15AE207A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7DE-3DA9-4219-9318-C6B8A31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19A-0F3E-404A-9E7F-0FF3929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66A-EE5F-45D2-84E4-521CDDB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982-3320-427B-8A09-EAC22DF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CEE-42EF-41A4-ACD6-FAC25BE063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5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38C-ED8F-4DB7-B7B3-60785B2E303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Times New Roman"/>
              </a:rPr>
              <a:t>Circles</a:t>
            </a:r>
            <a:endParaRPr b="0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800600" y="2133720"/>
            <a:ext cx="4343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chords are congruent, then arcs are congruent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" name="Group 21"/>
          <p:cNvGrpSpPr/>
          <p:nvPr/>
        </p:nvGrpSpPr>
        <p:grpSpPr>
          <a:xfrm>
            <a:off x="2286000" y="1600200"/>
            <a:ext cx="2438280" cy="3370680"/>
            <a:chOff x="2286000" y="1600200"/>
            <a:chExt cx="2438280" cy="3370680"/>
          </a:xfrm>
        </p:grpSpPr>
        <p:sp>
          <p:nvSpPr>
            <p:cNvPr id="237" name="Line 7"/>
            <p:cNvSpPr/>
            <p:nvPr/>
          </p:nvSpPr>
          <p:spPr>
            <a:xfrm>
              <a:off x="2666880" y="2362320"/>
              <a:ext cx="1447920" cy="1828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Text Box 9"/>
            <p:cNvSpPr/>
            <p:nvPr/>
          </p:nvSpPr>
          <p:spPr>
            <a:xfrm>
              <a:off x="2286000" y="160020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4114800" y="419112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1371600" y="1828800"/>
            <a:ext cx="777600" cy="3751560"/>
            <a:chOff x="1371600" y="1828800"/>
            <a:chExt cx="777600" cy="3751560"/>
          </a:xfrm>
        </p:grpSpPr>
        <p:sp>
          <p:nvSpPr>
            <p:cNvPr id="241" name="Line 8"/>
            <p:cNvSpPr/>
            <p:nvPr/>
          </p:nvSpPr>
          <p:spPr>
            <a:xfrm flipH="1">
              <a:off x="1736280" y="2509920"/>
              <a:ext cx="412920" cy="22957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Text Box 11"/>
            <p:cNvSpPr/>
            <p:nvPr/>
          </p:nvSpPr>
          <p:spPr>
            <a:xfrm>
              <a:off x="1523880" y="1828800"/>
              <a:ext cx="609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66ff33"/>
                  </a:solidFill>
                  <a:latin typeface="Times New Roman"/>
                </a:rPr>
                <a:t>C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1371600" y="4800600"/>
              <a:ext cx="609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66ff33"/>
                  </a:solidFill>
                  <a:latin typeface="Times New Roman"/>
                </a:rPr>
                <a:t>D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Object 0"/>
              <p:cNvSpPr txBox="1"/>
              <p:nvPr/>
            </p:nvSpPr>
            <p:spPr>
              <a:xfrm>
                <a:off x="990720" y="5638680"/>
                <a:ext cx="28954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5" name="Group 18"/>
          <p:cNvGrpSpPr/>
          <p:nvPr/>
        </p:nvGrpSpPr>
        <p:grpSpPr>
          <a:xfrm>
            <a:off x="4191120" y="5411160"/>
            <a:ext cx="4952880" cy="1164240"/>
            <a:chOff x="4191120" y="5411160"/>
            <a:chExt cx="4952880" cy="1164240"/>
          </a:xfrm>
        </p:grpSpPr>
        <p:sp>
          <p:nvSpPr>
            <p:cNvPr id="246" name="Text Box 15"/>
            <p:cNvSpPr/>
            <p:nvPr/>
          </p:nvSpPr>
          <p:spPr>
            <a:xfrm>
              <a:off x="4191120" y="5643360"/>
              <a:ext cx="4952880" cy="93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then AB </a:t>
              </a:r>
              <a:r>
                <a:rPr b="0" lang="en-US" sz="5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Arc 16"/>
            <p:cNvSpPr/>
            <p:nvPr/>
          </p:nvSpPr>
          <p:spPr>
            <a:xfrm rot="19026600">
              <a:off x="5715000" y="5562360"/>
              <a:ext cx="762120" cy="80748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Arc 17"/>
            <p:cNvSpPr/>
            <p:nvPr/>
          </p:nvSpPr>
          <p:spPr>
            <a:xfrm rot="19038600">
              <a:off x="7327800" y="5567400"/>
              <a:ext cx="752400" cy="7974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914400" y="2514600"/>
            <a:ext cx="3048120" cy="1143000"/>
            <a:chOff x="914400" y="2514600"/>
            <a:chExt cx="3048120" cy="1143000"/>
          </a:xfrm>
        </p:grpSpPr>
        <p:sp>
          <p:nvSpPr>
            <p:cNvPr id="250" name="Line 19"/>
            <p:cNvSpPr/>
            <p:nvPr/>
          </p:nvSpPr>
          <p:spPr>
            <a:xfrm>
              <a:off x="914400" y="3581280"/>
              <a:ext cx="68580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 flipV="1">
              <a:off x="3657600" y="2514600"/>
              <a:ext cx="30492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572000" y="1371600"/>
            <a:ext cx="4572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a diameter is perpendicular to a chord, then it bisects the chord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3200400" y="1752480"/>
            <a:ext cx="1066680" cy="4132440"/>
            <a:chOff x="3200400" y="1752480"/>
            <a:chExt cx="1066680" cy="4132440"/>
          </a:xfrm>
        </p:grpSpPr>
        <p:sp>
          <p:nvSpPr>
            <p:cNvPr id="257" name="Line 7"/>
            <p:cNvSpPr/>
            <p:nvPr/>
          </p:nvSpPr>
          <p:spPr>
            <a:xfrm>
              <a:off x="3429000" y="2590920"/>
              <a:ext cx="0" cy="25146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3200400" y="1752480"/>
              <a:ext cx="9907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3276720" y="4952880"/>
              <a:ext cx="9903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0" name="Text Box 10"/>
          <p:cNvSpPr/>
          <p:nvPr/>
        </p:nvSpPr>
        <p:spPr>
          <a:xfrm>
            <a:off x="28954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523880" y="5899320"/>
                <a:ext cx="64296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2" name="Group 15"/>
          <p:cNvGrpSpPr/>
          <p:nvPr/>
        </p:nvGrpSpPr>
        <p:grpSpPr>
          <a:xfrm>
            <a:off x="762120" y="3505320"/>
            <a:ext cx="4190760" cy="779760"/>
            <a:chOff x="762120" y="3505320"/>
            <a:chExt cx="4190760" cy="779760"/>
          </a:xfrm>
        </p:grpSpPr>
        <p:sp>
          <p:nvSpPr>
            <p:cNvPr id="263" name="Line 6"/>
            <p:cNvSpPr/>
            <p:nvPr/>
          </p:nvSpPr>
          <p:spPr>
            <a:xfrm>
              <a:off x="1295280" y="3809880"/>
              <a:ext cx="289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762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4191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572000" y="1371600"/>
            <a:ext cx="4572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f a diameter is perpendicular to a chord, then it bisects the arc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3200400" y="1752480"/>
            <a:ext cx="1066680" cy="4132440"/>
            <a:chOff x="3200400" y="1752480"/>
            <a:chExt cx="1066680" cy="4132440"/>
          </a:xfrm>
        </p:grpSpPr>
        <p:sp>
          <p:nvSpPr>
            <p:cNvPr id="271" name="Line 7"/>
            <p:cNvSpPr/>
            <p:nvPr/>
          </p:nvSpPr>
          <p:spPr>
            <a:xfrm>
              <a:off x="3429000" y="2590920"/>
              <a:ext cx="0" cy="25146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3200400" y="1752480"/>
              <a:ext cx="9907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A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3276720" y="4952880"/>
              <a:ext cx="9903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66ff33"/>
                  </a:solidFill>
                  <a:latin typeface="Times New Roman"/>
                </a:rPr>
                <a:t>B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4" name="Text Box 10"/>
          <p:cNvSpPr/>
          <p:nvPr/>
        </p:nvSpPr>
        <p:spPr>
          <a:xfrm>
            <a:off x="28954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1"/>
              <p:cNvSpPr txBox="1"/>
              <p:nvPr/>
            </p:nvSpPr>
            <p:spPr>
              <a:xfrm>
                <a:off x="914400" y="5899320"/>
                <a:ext cx="37227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t xml:space="preserve">⊥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Group 12"/>
          <p:cNvGrpSpPr/>
          <p:nvPr/>
        </p:nvGrpSpPr>
        <p:grpSpPr>
          <a:xfrm>
            <a:off x="762120" y="3505320"/>
            <a:ext cx="4190760" cy="779760"/>
            <a:chOff x="762120" y="3505320"/>
            <a:chExt cx="4190760" cy="779760"/>
          </a:xfrm>
        </p:grpSpPr>
        <p:sp>
          <p:nvSpPr>
            <p:cNvPr id="277" name="Line 13"/>
            <p:cNvSpPr/>
            <p:nvPr/>
          </p:nvSpPr>
          <p:spPr>
            <a:xfrm>
              <a:off x="1295280" y="3809880"/>
              <a:ext cx="289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762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4191120" y="3505320"/>
              <a:ext cx="761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4487400" y="5809680"/>
            <a:ext cx="3239280" cy="1050120"/>
            <a:chOff x="4487400" y="5809680"/>
            <a:chExt cx="3239280" cy="1050120"/>
          </a:xfrm>
        </p:grpSpPr>
        <p:sp>
          <p:nvSpPr>
            <p:cNvPr id="281" name="Rectangle 16"/>
            <p:cNvSpPr/>
            <p:nvPr/>
          </p:nvSpPr>
          <p:spPr>
            <a:xfrm>
              <a:off x="4487400" y="5927760"/>
              <a:ext cx="3239280" cy="93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en-US" sz="5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</a:rPr>
                <a:t> BH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Arc 17"/>
            <p:cNvSpPr/>
            <p:nvPr/>
          </p:nvSpPr>
          <p:spPr>
            <a:xfrm flipV="1" rot="13218000">
              <a:off x="5028480" y="5942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Arc 18"/>
            <p:cNvSpPr/>
            <p:nvPr/>
          </p:nvSpPr>
          <p:spPr>
            <a:xfrm flipV="1" rot="13218000">
              <a:off x="6705000" y="5942880"/>
              <a:ext cx="609480" cy="533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 and Chord Relationship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1295280" y="2362320"/>
            <a:ext cx="2895840" cy="289548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495680" y="1447920"/>
            <a:ext cx="464832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Two chords are </a:t>
            </a:r>
            <a:r>
              <a:rPr b="0" lang="en-US" sz="5500" spc="-1" strike="noStrike">
                <a:solidFill>
                  <a:srgbClr val="eaeaea"/>
                </a:solidFill>
                <a:latin typeface="Symbol"/>
                <a:ea typeface="Symbol"/>
              </a:rPr>
              <a:t></a:t>
            </a: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 if and only if they are the same distance from the center.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8" name="Group 21"/>
          <p:cNvGrpSpPr/>
          <p:nvPr/>
        </p:nvGrpSpPr>
        <p:grpSpPr>
          <a:xfrm>
            <a:off x="2286000" y="3429000"/>
            <a:ext cx="1143000" cy="990720"/>
            <a:chOff x="2286000" y="3429000"/>
            <a:chExt cx="1143000" cy="990720"/>
          </a:xfrm>
        </p:grpSpPr>
        <p:sp>
          <p:nvSpPr>
            <p:cNvPr id="289" name="Line 8"/>
            <p:cNvSpPr/>
            <p:nvPr/>
          </p:nvSpPr>
          <p:spPr>
            <a:xfrm flipH="1">
              <a:off x="2286000" y="3809880"/>
              <a:ext cx="457200" cy="609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 flipV="1">
              <a:off x="2743200" y="3429000"/>
              <a:ext cx="6858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609480" y="1523880"/>
            <a:ext cx="4038840" cy="4361040"/>
            <a:chOff x="609480" y="1523880"/>
            <a:chExt cx="4038840" cy="4361040"/>
          </a:xfrm>
        </p:grpSpPr>
        <p:sp>
          <p:nvSpPr>
            <p:cNvPr id="292" name="Line 7"/>
            <p:cNvSpPr/>
            <p:nvPr/>
          </p:nvSpPr>
          <p:spPr>
            <a:xfrm>
              <a:off x="1219320" y="3505320"/>
              <a:ext cx="1981080" cy="167616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3" name="Group 18"/>
            <p:cNvGrpSpPr/>
            <p:nvPr/>
          </p:nvGrpSpPr>
          <p:grpSpPr>
            <a:xfrm>
              <a:off x="2666880" y="1523880"/>
              <a:ext cx="1981440" cy="3827880"/>
              <a:chOff x="2666880" y="1523880"/>
              <a:chExt cx="1981440" cy="3827880"/>
            </a:xfrm>
          </p:grpSpPr>
          <p:sp>
            <p:nvSpPr>
              <p:cNvPr id="294" name="Line 6"/>
              <p:cNvSpPr/>
              <p:nvPr/>
            </p:nvSpPr>
            <p:spPr>
              <a:xfrm>
                <a:off x="2971800" y="2438280"/>
                <a:ext cx="990720" cy="213372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Text Box 10"/>
              <p:cNvSpPr/>
              <p:nvPr/>
            </p:nvSpPr>
            <p:spPr>
              <a:xfrm>
                <a:off x="2666880" y="1523880"/>
                <a:ext cx="76212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500" spc="-1" strike="noStrike">
                    <a:solidFill>
                      <a:srgbClr val="66ff33"/>
                    </a:solidFill>
                    <a:latin typeface="Times New Roman"/>
                  </a:rPr>
                  <a:t>A</a:t>
                </a: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Text Box 11"/>
              <p:cNvSpPr/>
              <p:nvPr/>
            </p:nvSpPr>
            <p:spPr>
              <a:xfrm>
                <a:off x="3886200" y="4419720"/>
                <a:ext cx="762120" cy="9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500" spc="-1" strike="noStrike">
                    <a:solidFill>
                      <a:srgbClr val="66ff33"/>
                    </a:solidFill>
                    <a:latin typeface="Times New Roman"/>
                  </a:rPr>
                  <a:t>B</a:t>
                </a: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12"/>
            <p:cNvSpPr/>
            <p:nvPr/>
          </p:nvSpPr>
          <p:spPr>
            <a:xfrm>
              <a:off x="609480" y="2895480"/>
              <a:ext cx="762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Text Box 13"/>
            <p:cNvSpPr/>
            <p:nvPr/>
          </p:nvSpPr>
          <p:spPr>
            <a:xfrm>
              <a:off x="3124080" y="4952880"/>
              <a:ext cx="762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33cc"/>
                  </a:solidFill>
                  <a:latin typeface="Times New Roman"/>
                </a:rPr>
                <a:t>D</a:t>
              </a: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1828800" y="2819520"/>
            <a:ext cx="2438280" cy="2227320"/>
            <a:chOff x="1828800" y="2819520"/>
            <a:chExt cx="2438280" cy="2227320"/>
          </a:xfrm>
        </p:grpSpPr>
        <p:sp>
          <p:nvSpPr>
            <p:cNvPr id="300" name="Text Box 14"/>
            <p:cNvSpPr/>
            <p:nvPr/>
          </p:nvSpPr>
          <p:spPr>
            <a:xfrm>
              <a:off x="2209680" y="312408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3352680" y="281952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828800" y="4267080"/>
              <a:ext cx="9144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024"/>
              <p:cNvSpPr txBox="1"/>
              <p:nvPr/>
            </p:nvSpPr>
            <p:spPr>
              <a:xfrm>
                <a:off x="1174680" y="5759280"/>
                <a:ext cx="7174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⇔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</m:bar>
                    <m:r>
                      <m:t xml:space="preserve">≃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Parts of a Circle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514600" y="1676520"/>
            <a:ext cx="3886200" cy="38862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4419720" y="3581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0" y="358128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center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038480" y="3124080"/>
            <a:ext cx="381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914400" y="579132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Use the center to name a circle.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553080" y="190512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ircle F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7010280" y="2743200"/>
            <a:ext cx="1600200" cy="779760"/>
            <a:chOff x="7010280" y="2743200"/>
            <a:chExt cx="1600200" cy="779760"/>
          </a:xfrm>
        </p:grpSpPr>
        <p:grpSp>
          <p:nvGrpSpPr>
            <p:cNvPr id="134" name="Group 13"/>
            <p:cNvGrpSpPr/>
            <p:nvPr/>
          </p:nvGrpSpPr>
          <p:grpSpPr>
            <a:xfrm>
              <a:off x="7010280" y="2743200"/>
              <a:ext cx="1600200" cy="779760"/>
              <a:chOff x="7010280" y="2743200"/>
              <a:chExt cx="1600200" cy="779760"/>
            </a:xfrm>
          </p:grpSpPr>
          <p:sp>
            <p:nvSpPr>
              <p:cNvPr id="135" name="Oval 10"/>
              <p:cNvSpPr/>
              <p:nvPr/>
            </p:nvSpPr>
            <p:spPr>
              <a:xfrm>
                <a:off x="7010280" y="2895480"/>
                <a:ext cx="457200" cy="457200"/>
              </a:xfrm>
              <a:prstGeom prst="ellipse">
                <a:avLst/>
              </a:prstGeom>
              <a:noFill/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Text Box 12"/>
              <p:cNvSpPr/>
              <p:nvPr/>
            </p:nvSpPr>
            <p:spPr>
              <a:xfrm>
                <a:off x="7467480" y="2743200"/>
                <a:ext cx="11430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eaeaea"/>
                    </a:solidFill>
                    <a:latin typeface="Times New Roman"/>
                  </a:rPr>
                  <a:t>F</a:t>
                </a:r>
                <a:endParaRPr b="0" lang="en-US" sz="45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7" name="Oval 14"/>
            <p:cNvSpPr/>
            <p:nvPr/>
          </p:nvSpPr>
          <p:spPr>
            <a:xfrm>
              <a:off x="7162920" y="3048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Parts of a Circle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2514600" y="1676520"/>
            <a:ext cx="3886200" cy="38862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4419720" y="3581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286000" y="5638680"/>
            <a:ext cx="510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gments &amp; Lines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352680" y="1981080"/>
            <a:ext cx="3048120" cy="129564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76920" y="2057400"/>
            <a:ext cx="2895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9900"/>
                </a:solidFill>
                <a:latin typeface="Times New Roman"/>
              </a:rPr>
              <a:t>chor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514600" y="3657600"/>
            <a:ext cx="388620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743200" y="2895480"/>
            <a:ext cx="2438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cc"/>
                </a:solidFill>
                <a:latin typeface="Times New Roman"/>
              </a:rPr>
              <a:t>diamete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495680" y="3657600"/>
            <a:ext cx="1143000" cy="15238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4267080"/>
            <a:ext cx="22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33"/>
                </a:solidFill>
                <a:latin typeface="Times New Roman"/>
              </a:rPr>
              <a:t>radius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5334120" y="1905120"/>
            <a:ext cx="1676160" cy="39621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609480" y="228600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</a:rPr>
              <a:t>tangent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6705720" y="2590920"/>
            <a:ext cx="2057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secant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14600" y="1905120"/>
            <a:ext cx="0" cy="3809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6477120" y="2133720"/>
            <a:ext cx="2057400" cy="205740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6477120" y="3200400"/>
            <a:ext cx="2057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u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Radius/diamete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ircumferenc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4" descr="C:\Program Files\Microsoft Office\Clipart\standard\stddir1\bd05092_.wmf"/>
          <p:cNvPicPr/>
          <p:nvPr/>
        </p:nvPicPr>
        <p:blipFill>
          <a:blip r:embed="rId1"/>
          <a:stretch/>
        </p:blipFill>
        <p:spPr>
          <a:xfrm>
            <a:off x="2057400" y="228600"/>
            <a:ext cx="1292400" cy="117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Program Files\Microsoft Office\Clipart\standard\stddir1\bd05092_.wmf"/>
          <p:cNvPicPr/>
          <p:nvPr/>
        </p:nvPicPr>
        <p:blipFill>
          <a:blip r:embed="rId2"/>
          <a:stretch/>
        </p:blipFill>
        <p:spPr>
          <a:xfrm>
            <a:off x="5867280" y="228600"/>
            <a:ext cx="1292400" cy="117324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746748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7467480" y="320040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687600" y="2286000"/>
            <a:ext cx="6581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radius =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½diamete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r = ½ 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diameter = 2(radius)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   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Courier New"/>
              </a:rPr>
              <a:t>d = 2r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66680" y="5873760"/>
            <a:ext cx="80773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 = 2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∏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or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	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  C = ∏d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ypes of Angl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38080" y="175248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2590920"/>
            <a:ext cx="487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- Vertex is on the center.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219320" y="1676520"/>
            <a:ext cx="6781680" cy="4724280"/>
            <a:chOff x="1219320" y="1676520"/>
            <a:chExt cx="6781680" cy="4724280"/>
          </a:xfrm>
        </p:grpSpPr>
        <p:sp>
          <p:nvSpPr>
            <p:cNvPr id="167" name="Oval 4"/>
            <p:cNvSpPr/>
            <p:nvPr/>
          </p:nvSpPr>
          <p:spPr>
            <a:xfrm>
              <a:off x="5791320" y="1676520"/>
              <a:ext cx="2209680" cy="2209680"/>
            </a:xfrm>
            <a:prstGeom prst="ellipse">
              <a:avLst/>
            </a:prstGeom>
            <a:solidFill>
              <a:srgbClr val="003399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Oval 5"/>
            <p:cNvSpPr/>
            <p:nvPr/>
          </p:nvSpPr>
          <p:spPr>
            <a:xfrm>
              <a:off x="1219320" y="4191120"/>
              <a:ext cx="2209680" cy="2209680"/>
            </a:xfrm>
            <a:prstGeom prst="ellipse">
              <a:avLst/>
            </a:prstGeom>
            <a:solidFill>
              <a:srgbClr val="003399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6858000" y="274320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2286000" y="5257800"/>
              <a:ext cx="7632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1" name="Group 17"/>
          <p:cNvGrpSpPr/>
          <p:nvPr/>
        </p:nvGrpSpPr>
        <p:grpSpPr>
          <a:xfrm>
            <a:off x="6915240" y="1066320"/>
            <a:ext cx="1676160" cy="3048480"/>
            <a:chOff x="6915240" y="1066320"/>
            <a:chExt cx="1676160" cy="3048480"/>
          </a:xfrm>
        </p:grpSpPr>
        <p:sp>
          <p:nvSpPr>
            <p:cNvPr id="172" name="Line 10"/>
            <p:cNvSpPr/>
            <p:nvPr/>
          </p:nvSpPr>
          <p:spPr>
            <a:xfrm flipV="1">
              <a:off x="6915240" y="1066320"/>
              <a:ext cx="914400" cy="17528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>
              <a:off x="6915240" y="2819520"/>
              <a:ext cx="1676160" cy="129528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Text Box 12"/>
          <p:cNvSpPr/>
          <p:nvPr/>
        </p:nvSpPr>
        <p:spPr>
          <a:xfrm>
            <a:off x="4038480" y="426708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Inscribed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267080" y="5105520"/>
            <a:ext cx="487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Times New Roman"/>
              </a:rPr>
              <a:t>- Vertex is on the circle.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457200" y="3276720"/>
            <a:ext cx="2666880" cy="2743200"/>
            <a:chOff x="457200" y="3276720"/>
            <a:chExt cx="2666880" cy="2743200"/>
          </a:xfrm>
        </p:grpSpPr>
        <p:sp>
          <p:nvSpPr>
            <p:cNvPr id="177" name="Line 14"/>
            <p:cNvSpPr/>
            <p:nvPr/>
          </p:nvSpPr>
          <p:spPr>
            <a:xfrm flipH="1" flipV="1">
              <a:off x="1905120" y="3276720"/>
              <a:ext cx="1218960" cy="27432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 flipV="1">
              <a:off x="457200" y="4952880"/>
              <a:ext cx="2666880" cy="10670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ypes of Arc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4724280" y="2209680"/>
            <a:ext cx="3124440" cy="3124440"/>
          </a:xfrm>
          <a:prstGeom prst="ellipse">
            <a:avLst/>
          </a:prstGeom>
          <a:solidFill>
            <a:srgbClr val="0033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617220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 flipH="1" flipV="1">
            <a:off x="5486040" y="1600200"/>
            <a:ext cx="762120" cy="22096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4419720" y="3809880"/>
            <a:ext cx="1828800" cy="17528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32448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7150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952880" y="4952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04920" y="914400"/>
            <a:ext cx="38862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705720" y="5181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086600" y="5105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" name="Group 28"/>
          <p:cNvGrpSpPr/>
          <p:nvPr/>
        </p:nvGrpSpPr>
        <p:grpSpPr>
          <a:xfrm>
            <a:off x="1879200" y="3598560"/>
            <a:ext cx="3073680" cy="1337400"/>
            <a:chOff x="1879200" y="3598560"/>
            <a:chExt cx="3073680" cy="1337400"/>
          </a:xfrm>
        </p:grpSpPr>
        <p:sp>
          <p:nvSpPr>
            <p:cNvPr id="191" name="Text Box 15"/>
            <p:cNvSpPr/>
            <p:nvPr/>
          </p:nvSpPr>
          <p:spPr>
            <a:xfrm>
              <a:off x="1981080" y="403848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Arc 18"/>
            <p:cNvSpPr/>
            <p:nvPr/>
          </p:nvSpPr>
          <p:spPr>
            <a:xfrm rot="19193400">
              <a:off x="2057040" y="380988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" name="Group 23"/>
          <p:cNvGrpSpPr/>
          <p:nvPr/>
        </p:nvGrpSpPr>
        <p:grpSpPr>
          <a:xfrm>
            <a:off x="1905120" y="1465200"/>
            <a:ext cx="2971800" cy="1371960"/>
            <a:chOff x="1905120" y="1465200"/>
            <a:chExt cx="2971800" cy="1371960"/>
          </a:xfrm>
        </p:grpSpPr>
        <p:sp>
          <p:nvSpPr>
            <p:cNvPr id="194" name="Text Box 14"/>
            <p:cNvSpPr/>
            <p:nvPr/>
          </p:nvSpPr>
          <p:spPr>
            <a:xfrm>
              <a:off x="1905120" y="205740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NO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Arc 19"/>
            <p:cNvSpPr/>
            <p:nvPr/>
          </p:nvSpPr>
          <p:spPr>
            <a:xfrm rot="19193400">
              <a:off x="2209680" y="167652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6" name="Group 21"/>
          <p:cNvGrpSpPr/>
          <p:nvPr/>
        </p:nvGrpSpPr>
        <p:grpSpPr>
          <a:xfrm>
            <a:off x="1905120" y="5503680"/>
            <a:ext cx="2971800" cy="1356120"/>
            <a:chOff x="1905120" y="5503680"/>
            <a:chExt cx="2971800" cy="1356120"/>
          </a:xfrm>
        </p:grpSpPr>
        <p:sp>
          <p:nvSpPr>
            <p:cNvPr id="197" name="Text Box 16"/>
            <p:cNvSpPr/>
            <p:nvPr/>
          </p:nvSpPr>
          <p:spPr>
            <a:xfrm>
              <a:off x="1905120" y="6080040"/>
              <a:ext cx="2971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eaeaea"/>
                  </a:solidFill>
                  <a:latin typeface="Times New Roman"/>
                </a:rPr>
                <a:t>MON</a:t>
              </a:r>
              <a:endParaRPr b="0" lang="en-US" sz="4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Arc 20"/>
            <p:cNvSpPr/>
            <p:nvPr/>
          </p:nvSpPr>
          <p:spPr>
            <a:xfrm rot="19193400">
              <a:off x="2209320" y="5715000"/>
              <a:ext cx="990720" cy="9144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9" name="Line 27"/>
          <p:cNvSpPr/>
          <p:nvPr/>
        </p:nvSpPr>
        <p:spPr>
          <a:xfrm>
            <a:off x="6248520" y="3809880"/>
            <a:ext cx="838080" cy="22100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144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51055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67816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6858000" y="3047760"/>
            <a:ext cx="1577880" cy="1941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858000" y="5029200"/>
            <a:ext cx="1905120" cy="1371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010280" y="4572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8229600" y="3809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1" lang="en-US" sz="4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8600" y="4419720"/>
            <a:ext cx="4495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ff33"/>
                </a:solidFill>
                <a:latin typeface="Times New Roman"/>
              </a:rPr>
              <a:t>360 – 68 = 292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193280" y="5562720"/>
            <a:ext cx="1506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ff33"/>
                </a:solidFill>
                <a:latin typeface="Times New Roman"/>
              </a:rPr>
              <a:t>292</a:t>
            </a:r>
            <a:r>
              <a:rPr b="1" lang="en-US" sz="55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°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2120" y="3200400"/>
            <a:ext cx="6933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 = 180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48769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65530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 flipV="1">
            <a:off x="6629400" y="3047760"/>
            <a:ext cx="1600200" cy="19414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4952520" y="5029200"/>
            <a:ext cx="1600200" cy="1828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752480" y="4952880"/>
            <a:ext cx="15242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3429000" y="4495680"/>
            <a:ext cx="2590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cc9900"/>
                </a:solidFill>
                <a:latin typeface="Times New Roman"/>
              </a:rPr>
              <a:t>180</a:t>
            </a:r>
            <a:r>
              <a:rPr b="0" lang="en-US" sz="55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°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Measure of Arcs &amp; Angles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295280"/>
            <a:ext cx="693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inor arc =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2286000"/>
            <a:ext cx="8229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major arc = 360 - its central angle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62120" y="3200400"/>
            <a:ext cx="6933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semicircle = 180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4876920" y="3276720"/>
            <a:ext cx="3276360" cy="3276360"/>
          </a:xfrm>
          <a:prstGeom prst="ellipse">
            <a:avLst/>
          </a:prstGeom>
          <a:solidFill>
            <a:srgbClr val="0033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6553080" y="49528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H="1" flipV="1">
            <a:off x="4272120" y="4071240"/>
            <a:ext cx="3826440" cy="877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4952880" y="4952880"/>
            <a:ext cx="3200400" cy="19051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28600" y="4114800"/>
            <a:ext cx="4800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eaea"/>
                </a:solidFill>
                <a:latin typeface="Times New Roman"/>
              </a:rPr>
              <a:t>inscribed angle = </a:t>
            </a:r>
            <a:r>
              <a:rPr b="0" lang="en-US" sz="55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½minor arc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1911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cc"/>
                </a:solidFill>
                <a:latin typeface="Times New Roman"/>
              </a:rPr>
              <a:t>68</a:t>
            </a:r>
            <a:r>
              <a:rPr b="0" lang="en-US" sz="5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781680" y="4724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cc"/>
                </a:solidFill>
                <a:latin typeface="Times New Roman"/>
              </a:rPr>
              <a:t>34</a:t>
            </a:r>
            <a:r>
              <a:rPr b="0" lang="en-US" sz="5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°</a:t>
            </a:r>
            <a:endParaRPr b="0" lang="en-US" sz="5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9:33:29Z</dcterms:created>
  <dc:creator>wgchandler</dc:creator>
  <dc:description/>
  <dc:language>en-US</dc:language>
  <cp:lastModifiedBy>BeasoA</cp:lastModifiedBy>
  <dcterms:modified xsi:type="dcterms:W3CDTF">2010-10-03T15:11:27Z</dcterms:modified>
  <cp:revision>7</cp:revision>
  <dc:subject/>
  <dc:title>Circles</dc:title>
</cp:coreProperties>
</file>